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CD5A-6DCD-48DE-A2A7-30285DC3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C80-0F0B-4282-AA09-2EAA9734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5BE-BBD6-46DF-AB2B-F4EB3CA6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5B1D-98A0-4DBC-B4AF-C337BED7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86EB-3457-409E-9B0B-6BA9B8A5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2167-85FD-4974-BB21-4E9E3043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05F2-C2A2-486A-BCCD-34D7C4CB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4671-959A-47BC-AA47-978F8E59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1071-BAE8-4FBC-80FB-FA903CFE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FAC3-D0ED-4CF9-A727-0F378D3B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269D-4BDB-459C-BEA0-74AD6488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A80-32F8-47BF-B6CB-A42D2A66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4B01-D29B-4328-A06F-39A85736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618A-1851-41F1-B65B-143E1D56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BC01-97C7-4B43-8334-59D92B85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9819-EB03-4C19-A563-ECC9ADF3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F14E-F149-40BF-B5FD-5C80B6B2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D36C9-0E64-40EB-98F9-1DD08D05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90A78-7436-4FEB-B400-5FB677D5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71BDF-23F2-42BC-B50E-B4EA0718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18CB1-A45E-454B-80FC-8FBEA48C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C8DA3-0B53-4E78-8977-65AF8033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1049-E131-4F0D-9CFB-9E77005B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0F8C0-038F-4DF3-B326-C2305CDC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F69FA-E73E-46EB-BA4E-D596E082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79753-00FC-47EB-8D0B-F95A7E5D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D6AF3-15F3-4BAC-BCFA-AE5F887A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5D8EA-5019-4CA5-9BBE-96917FFD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DD01A-3279-40FA-B836-CAE72BF9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76A26-959A-4986-81A9-9FA6D3ED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0DA6B-736E-4560-B3AC-D3DAB817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D2EBC-CC82-4BA8-B067-9C841B98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550C4-4419-497B-98D7-24CECED7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59D-26F1-43E3-93DE-CDB19616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8029D-6B18-417F-8EF6-516B813B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52EA5-719D-4684-8C30-86F89592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D7054-31AA-46BC-A91F-360DFF4D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172D1-C8D2-4409-B10F-C3F2CA19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74BF7-E294-4C90-9B51-4511C71F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ACBB6-E75D-49CB-80D9-170AD667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41E3D-BAF0-4989-94EE-70B0D846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35F3A-CC45-4789-9889-98B8C9D7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CADAB-4EF4-4F4D-94EA-EA53BA7C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070AC-9C25-4BBA-80A1-D4B4BEC4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C635-193D-42B0-9B51-B9113318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EC242-05F9-42CE-82BB-7CBAA357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3667A-183E-45EE-9317-76444FD7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913D9-2811-47C6-8410-4250319B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5C0D8-F5EC-494F-9D7C-6AD99EAB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2B80C-DF9C-41FD-9F0B-64B6326D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3BB6E-494A-4BEE-9D1A-1E9C9F7C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53BF8-092E-434E-87ED-AAE3540C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9CCEB-6152-42DC-A42F-80F0D11E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FB1B4-C37D-423A-A9D2-042A91BA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75E78-42CD-4559-8F77-8101CCB3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BF6D-5F10-4F59-8D4E-450D7147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DF810-E000-4EDF-8B40-DFBB3840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00D4D-9C03-4296-A117-CF1B3FBE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5CA13-788E-4B9C-8CCF-AE65C60A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C7273-BE9E-431B-8054-56648127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28C84-C1AD-4FFD-950B-C426496B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0C083-461B-43C2-92BD-0FE6888F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CAF26-B8D9-4BCB-BAE5-0A9F2076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D6BD6-1927-4F62-9A0C-94DF13F5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63384-170F-4DC8-93EE-FDF45F30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85A91-166E-4775-A5A0-339A6A47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BDEB-F2E9-4830-93C7-54622246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03DA3-331F-477C-8949-12E18C4A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0CBC0-06F8-4569-AB93-14D38F2E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6504F-56F8-428D-B407-8A1B173A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1FA07-1918-4AF0-B1C6-1B9EE0D1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D9C0B-25D8-4CFF-8B3A-1E23E5F9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ECB63-A95B-4A60-B243-3B9DDE54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C13DC-9711-4391-B3D1-A1581E7A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14959-C591-4486-93D2-6B6F4A70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5ACF3-77D7-477C-8162-B6AD9508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BB193-13B3-4C03-AAAA-8DE912FE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8A72-9AEA-4B98-9ABB-F11F4C3B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8BDD2-F425-402E-A36C-6BF2A6D0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0CA74-9E64-44D8-9C84-32EA0276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C5642-6F18-4AFA-8A37-EE3A37B7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9B086-14AA-4523-BAC5-5953EC37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B269C-449D-4BDC-AF9F-BDB92527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D07-B95E-4620-8073-36A238F9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E17E-B47D-4DF7-9AB3-5D43F15215DD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89B7-817E-49E8-BE1A-4B89FF6C20CB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E594-FD7A-431D-8E6C-63F72747C61E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987E-1965-4244-AFAE-8B99080F1777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4E93-844C-40D1-BF41-CD1DFE5674FB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02F6-F0CF-4FAE-853B-E9A8CD2FC52C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5700-FE7E-4EFB-AE87-094A6BBEE12E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.uk/imgres?imgurl=http://images.fanpop.com/images/image_uploads/Will---Grace-will--26-grace-146358_1024_768.jpg&amp;imgrefurl=http://www.fanpop.com/spots/will-and-grace/images/146358&amp;usg=__OVsUJy50cixedaIQexuRjD7-oFs=&amp;h=768&amp;w=1024&amp;sz=71&amp;hl=en&amp;start=1&amp;zoom=1&amp;um=1&amp;itbs=1&amp;tbnid=AY5dfaPMH6LhnM:&amp;tbnh=113&amp;tbnw=150&amp;prev=/images%3Fq%3Dwill%2Band%2Bgrace%26um%3D1%26hl%3Den%26tbs%3Disch: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co.uk/imgres?imgurl=http://blog.ctnews.com/meyers/files/2010/08/mcmurtry3.jpg&amp;imgrefurl=http://blog.ctnews.com/meyers/2010/08/07/%25E2%2580%2598hollywood%25E2%2580%2599-larry-mcmurtry-from-%25E2%2580%2598hud%25E2%2580%2599-to-%25E2%2580%2598brokeback-mountain%25E2%2580%2599/&amp;usg=__DWFpl_Lz_r4YOhzNdQttOwEHqTs=&amp;h=459&amp;w=700&amp;sz=42&amp;hl=en&amp;start=1&amp;zoom=1&amp;um=1&amp;itbs=1&amp;tbnid=kLdQcI05weONHM:&amp;tbnh=92&amp;tbnw=140&amp;prev=/images%3Fq%3Dbrokeback%2Bmountain%26um%3D1%26hl%3Den%26tbs%3Disch: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co.uk/imgres?imgurl=http://joshandjosh.typepad.com/josh_josh_are_rich_and_fa/images/2007/11/20/queer_as_folk_justin_brian_kiss_399.jpg&amp;imgrefurl=http://joshandjosh.typepad.com/josh_josh_are_rich_and_fa/television/&amp;usg=__ddEjsZQSxqyXSvpOjMnUI4LWjHY=&amp;h=289&amp;w=399&amp;sz=78&amp;hl=en&amp;start=6&amp;zoom=1&amp;um=1&amp;itbs=1&amp;tbnid=gbUsy3w8hV9VHM:&amp;tbnh=90&amp;tbnw=124&amp;prev=/images%3Fq%3Dqueer%2Bas%2Bfolk%26um%3D1%26hl%3Den%26tbs%3Disch:1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ogle.co.uk/imgres?imgurl=http://i.ytimg.com/vi/5plY921aAKQ/hqdefault.jpg&amp;imgrefurl=http://www.ranker.com/list/-tv_s-almost-gay-couples/artsenyc%3Fformat%3DGRID&amp;usg=__n9jJ4uX4nUjsQUUuiojag8P6Uuc=&amp;h=360&amp;w=480&amp;sz=14&amp;hl=en&amp;start=17&amp;zoom=1&amp;um=1&amp;itbs=1&amp;tbnid=iBNOyL6uff4EiM:&amp;tbnh=97&amp;tbnw=129&amp;prev=/images%3Fq%3Djoey%2Band%2Bchandler%26um%3D1%26hl%3Den%26tbs%3Disch:1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www.google.co.uk/imgres?imgurl=http://www.midnightpoutine.ca/archives/SugarRush.jpg&amp;imgrefurl=http://www.midnightpoutine.ca/film/2007/11/image_nation_voix_de_lavenir/&amp;usg=__nAwg76Z2LbYgs19L4ZMsh7pMS1Q=&amp;h=302&amp;w=249&amp;sz=23&amp;hl=en&amp;start=6&amp;zoom=1&amp;um=1&amp;itbs=1&amp;tbnid=pkzvRYUsTKCBhM:&amp;tbnh=116&amp;tbnw=96&amp;prev=/images%3Fq%3Dsugar%2Brush%26um%3D1%26hl%3Den%26tbs%3Disch:1" TargetMode="External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blog.ctnews.com/meyers/files/2010/08/mcmurtry3.jpg&amp;imgrefurl=http://blog.ctnews.com/meyers/2010/08/07/%25E2%2580%2598hollywood%25E2%2580%2599-larry-mcmurtry-from-%25E2%2580%2598hud%25E2%2580%2599-to-%25E2%2580%2598brokeback-mountain%25E2%2580%2599/&amp;usg=__DWFpl_Lz_r4YOhzNdQttOwEHqTs=&amp;h=459&amp;w=700&amp;sz=42&amp;hl=en&amp;start=1&amp;zoom=1&amp;itbs=1&amp;tbnid=kLdQcI05weONHM:&amp;tbnh=92&amp;tbnw=140&amp;prev=/images%3Fq%3Dbrokeback%2Bmountain%26hl%3Den%26gbv%3D2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i.telegraph.co.uk/telegraph/multimedia/archive/01071/health-graphics-20_1071862a.jpg&amp;imgrefurl=http://www.telegraph.co.uk/health/men_shealth/3348864/Pillow-Talk.html&amp;usg=__CAc6ue4cHOfxp-gwXaqwTDUlaIU=&amp;h=440&amp;w=300&amp;sz=25&amp;hl=en&amp;start=16&amp;zoom=1&amp;itbs=1&amp;tbnid=qj0X6VwMSi2q9M:&amp;tbnh=127&amp;tbnw=87&amp;prev=/images%3Fq%3Dgraham%2Bnorton%2Bfairy%26hl%3Den%26gbv%3D2%26tbs%3Disch:1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google.co.uk/imgres?imgurl=http://www.lisa-faye.com/content/uploads/2010/08/paul-ogrady.jpg&amp;imgrefurl=http://www.lisa-faye.com/2010/08/16/paul-ogrady-promotes-streisand-the-concert/&amp;usg=__6mZOBs1sRA0joUnowSGKCC2ZULU=&amp;h=258&amp;w=258&amp;sz=15&amp;hl=en&amp;start=1&amp;zoom=1&amp;itbs=1&amp;tbnid=-Zb6cBstHw4GxM:&amp;tbnh=112&amp;tbnw=112&amp;prev=/images%3Fq%3Dpaul%2Bo%2Bgrady%26hl%3Den%26gbv%3D2%26tbs%3Disch:1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h-online.nl/dvd-will-%26-grace-1.jpg&amp;imgrefurl=http://apps.facebook.com/allmyquotes/directory.php%3Fref%3Ddirectory%26from%3D1080%26to%3D1120%26app%3D202642&amp;usg=__NbrrDqE68oAvdcTAjKnZD11aGis=&amp;h=300&amp;w=567&amp;sz=36&amp;hl=en&amp;start=15&amp;zoom=1&amp;itbs=1&amp;tbnid=mk6jHMJOF-Lt_M:&amp;tbnh=71&amp;tbnw=134&amp;prev=/images%3Fq%3Dwill%2Band%2Bgrace%26hl%3Den%26gbv%3D2%26tbs%3Disch:1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google.co.uk/imgres?imgurl=http://www.post-gazette.com/images4/20060517ho_WillGrace_450.jpg&amp;imgrefurl=http://www.movietome.com/users/Jacky1989/show_blog_entry.php%3Ftopic_id%3Dm-100-25502389&amp;usg=__DJ1EacRuDJnIHjE5byI7zASRvgs=&amp;h=422&amp;w=450&amp;sz=49&amp;hl=en&amp;start=14&amp;zoom=1&amp;itbs=1&amp;tbnid=d_1knigGRJ1--M:&amp;tbnh=119&amp;tbnw=127&amp;prev=/images%3Fq%3Dwill%2Band%2Bgrace%26hl%3Den%26gbv%3D2%26tbs%3Disch:1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google.co.uk/imgres?imgurl=http://ugandaninsomniac.files.wordpress.com/2008/08/russell-brand.jpg&amp;imgrefurl=http://ugandaninsomniac.wordpress.com/2008/08/02/whos-a-pretty-boy-then/&amp;usg=__Pxxg0ZDgKYyVTGBtfTFqJ6Xe2Ds=&amp;h=390&amp;w=280&amp;sz=34&amp;hl=en&amp;start=11&amp;zoom=1&amp;itbs=1&amp;tbnid=vQLSJeHnr1wgnM:&amp;tbnh=123&amp;tbnw=88&amp;prev=/images%3Fq%3Drussell%2Bbrand%2Beyeliner%26hl%3Den%26gbv%3D2%26tbs%3Disch:1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google.co.uk/imgres?imgurl=http://userserve-ak.last.fm/serve/_/30489819/Noel%2BFielding%2Bnoelfielding.jpg&amp;imgrefurl=http://www.last.fm/music/Noel%2BFielding/%2Bimages/30489819&amp;usg=__WrtlHvY1yPKtFiLXtHRrHK2QSu4=&amp;h=390&amp;w=280&amp;sz=24&amp;hl=en&amp;start=5&amp;zoom=1&amp;itbs=1&amp;tbnid=WBdaHW-J63SH9M:&amp;tbnh=123&amp;tbnw=88&amp;prev=/images%3Fq%3Dnoel%2Bfielding%26hl%3Den%26gbv%3D2%26tbs%3Disch: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sachafrey.files.wordpress.com/2009/11/butler11.gif&amp;imgrefurl=http://sachafrey.wordpress.com/2009/11/03/judith-butler-redux/&amp;usg=__WDbw5vK2JmS6JLCdgg_YVBuTu_U=&amp;h=300&amp;w=300&amp;sz=41&amp;hl=en&amp;start=1&amp;zoom=1&amp;itbs=1&amp;tbnid=FCE3kkNeP1JevM:&amp;tbnh=116&amp;tbnw=116&amp;prev=/images%3Fq%3Djudith%2Bbutler%26hl%3Den%26gbv%3D2%26tbs%3Disch: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starsjournal.com/wp-content/uploads/2008/07/joss-stone.jpg&amp;imgrefurl=http://www.starsjournal.com/1195/is-joss-stone-dating-nelly.html&amp;usg=__7Oev9F_Z7eTor-ul1HeXf48yxhQ=&amp;h=480&amp;w=368&amp;sz=65&amp;hl=en&amp;start=11&amp;zoom=1&amp;itbs=1&amp;tbnid=95OMvRbJBcJpJM:&amp;tbnh=129&amp;tbnw=99&amp;prev=/images%3Fq%3Djoss%2Bstone%26hl%3Den%26safe%3Dactive%26gbv%3D2%26tbs%3Disch: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co.uk/imgres?imgurl=http://starjerk.com/wp-content/uploads/2010/10/amy-winehouse.jpg&amp;imgrefurl=http://starjerk.com/celebrities/amy-winehouse/&amp;usg=__i-j1QivjK54ZDMwpnl2zFTinlI8=&amp;h=400&amp;w=300&amp;sz=42&amp;hl=en&amp;start=2&amp;zoom=1&amp;itbs=1&amp;tbnid=5ZRbi-XPZXw_rM:&amp;tbnh=124&amp;tbnw=93&amp;prev=/images%3Fq%3Damy%2Bwinehouse%2Btattoos%26hl%3Den%26safe%3Dactive%26gbv%3D2%26tbs%3Disch:1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1.bp.blogspot.com/_XBS3sASwLlc/TITbPXnpPOI/AAAAAAAAAJM/Yj1BJIrXcBs/s1600/Batman-and-Robin.jpg&amp;imgrefurl=http://classicpopculture.blogspot.com/&amp;usg=__V3WlkUjstP-jOHmcbED9p-gjPHQ=&amp;h=320&amp;w=400&amp;sz=47&amp;hl=en&amp;start=4&amp;zoom=1&amp;itbs=1&amp;tbnid=atWWjN0_K9MLtM:&amp;tbnh=99&amp;tbnw=124&amp;prev=/images%3Fq%3Dbatman%2Band%2Brobin%26hl%3Den%26gbv%3D2%26tbs%3Disch:1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en.wikipedia.org/wiki/File:Batbed.png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frasieronline.co.uk/gallery/albums/userpics/10490/normal_frasier_show_5.jpg&amp;imgrefurl=http://www.xiongdudu.com/photo/Frasier&amp;usg=__l7XJGu4Ubrbu2QrRcx_TC13lX-8=&amp;h=400&amp;w=328&amp;sz=33&amp;hl=en&amp;start=9&amp;zoom=1&amp;itbs=1&amp;tbnid=lUx0RD4ruOhmyM:&amp;tbnh=124&amp;tbnw=102&amp;prev=/images%3Fq%3Dfrasier%26hl%3Den%26gbv%3D2%26tbs%3Disch: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google.co.uk/imgres?imgurl=http://c2.api.ning.com/files/toPZYMNmtz0KSvdVcozyl4scTD9OJbFBGV-DnyV9*FOLELUcJmLioWWuVH7sdQM-cKfBKYLHJeGFoXBIFCoPmT8D6g3UUC31/friends.jpg&amp;imgrefurl=http://www.sodahead.com/entertainment/whos-your-favorite-in-the-show-friends/question-826057/&amp;usg=___J-jgC-aH2RDF-IlqbLmI6S9L_k=&amp;h=528&amp;w=396&amp;sz=42&amp;hl=en&amp;start=3&amp;zoom=1&amp;itbs=1&amp;tbnid=ZnaGTt20WCtkpM:&amp;tbnh=132&amp;tbnw=99&amp;prev=/images%3Fq%3Djoey%2Band%2Bchandler%26hl%3Den%26gbv%3D2%26tbs%3Disch:1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1.bp.blogspot.com/_CEEU2PTkVq0/TI3e0jVXkuI/AAAAAAAAB28/qoZsPzU1rYE/s1600/queer-as-folk-season-four.jpg&amp;imgrefurl=http://blameitontherainbro.blogspot.com/2010/09/anything-goes-but-dont-blink-you-might.html&amp;usg=__cqpo5-iqu6vkhuIMOGUhZSFAmHw=&amp;h=500&amp;w=355&amp;sz=61&amp;hl=en&amp;start=3&amp;zoom=1&amp;itbs=1&amp;tbnid=0WO5OCetw86NOM:&amp;tbnh=130&amp;tbnw=92&amp;prev=/images%3Fq%3Dqueer%2Bas%2Bfolk%26hl%3Den%26gbv%3D2%26tbs%3Disch: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480960" y="4133880"/>
            <a:ext cx="8212320" cy="21938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rbel"/>
              </a:rPr>
              <a:t>A Level Media Studi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5" descr="http://t1.gstatic.com/images?q=tbn:AY5dfaPMH6LhnM:http://images.fanpop.com/images/image_uploads/Will---Grace-will--26-grace-146358_1024_76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42200" y="549360"/>
            <a:ext cx="2006640" cy="1511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http://t0.gstatic.com/images?q=tbn:kLdQcI05weONHM:http://blog.ctnews.com/meyers/files/2010/08/mcmurtry3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1628640"/>
            <a:ext cx="2411280" cy="1584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http://t0.gstatic.com/images?q=tbn:gbUsy3w8hV9VHM:http://joshandjosh.typepad.com/josh_josh_are_rich_and_fa/images/2007/11/20/queer_as_folk_justin_brian_kiss_399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43640" y="2060640"/>
            <a:ext cx="1687680" cy="1224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http://t2.gstatic.com/images?q=tbn:iBNOyL6uff4EiM:http://i.ytimg.com/vi/5plY921aAKQ/hqdefault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005600" y="3213000"/>
            <a:ext cx="1819440" cy="13683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3" descr="http://t3.gstatic.com/images?q=tbn:pkzvRYUsTKCBhM:http://www.midnightpoutine.ca/archives/SugarRush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292720" y="189000"/>
            <a:ext cx="120168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Brokeback Mountain (2006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Success of this Hollywood film an indication of more progressive attitudes to homosexuality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For some, the film challenges two quintessential traditional images of American masculinity – the cowboy and the ‘fishing trip’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However, it can also be suggested that the homosexual relationship portrayed here is represented as tragic – a long way from the idealised heterosexual relationships in mainstream Hollywood film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As the film is set in the 1950s, some would also argue that this suggests issues of homophobia belong in the past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7" name="Picture 2" descr="http://t0.gstatic.com/images?q=tbn:kLdQcI05weONHM:http://blog.ctnews.com/meyers/files/2010/08/mcmurtry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0560" y="0"/>
            <a:ext cx="13334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Camp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Involves an exaggerated performance of femininit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Emphasis on style, image, irreverence and breaking taboo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A camp style draws attention to how masculinity is constructe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Challenges the traditional notions of masculinit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0" name="Picture 2" descr="http://t3.gstatic.com/images?q=tbn:qj0X6VwMSi2q9M:http://i.telegraph.co.uk/telegraph/multimedia/archive/01071/health-graphics-20_1071862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91640" y="5176800"/>
            <a:ext cx="1152360" cy="1681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http://t2.gstatic.com/images?q=tbn:-Zb6cBstHw4GxM:http://www.lisa-faye.com/content/uploads/2010/08/paul-ograd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731000" y="0"/>
            <a:ext cx="1413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ill and Grac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84000" y="1484280"/>
            <a:ext cx="800244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n indication of changing attitudes to homosexuality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ontains a number of overtly gay cultural reference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However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lthough Jack is portrayed as camp, Will spends much of the time ‘playing straight’ (having dinner parties, flat hunting with Grace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is boyfriends provide only fleeting relationship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is relationship with Grace is problematic –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ether he will ‘become straight’ is left open in the narrative (if so, he would be with Grace) – this undermines the queer reading of the text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4" name="Picture 5" descr="http://t3.gstatic.com/images?q=tbn:mk6jHMJOF-Lt_M:http://www.h-online.nl/dvd-will-%26-grace-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92880" y="0"/>
            <a:ext cx="1851120" cy="981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7" descr="http://t0.gstatic.com/images?q=tbn:d_1knigGRJ1--M:http://www.post-gazette.com/images4/20060517ho_WillGrace_45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740720" y="5543640"/>
            <a:ext cx="14032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Lesbianis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Never made illeg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Yet suppressed in British culture in 19</a:t>
            </a:r>
            <a:r>
              <a:rPr b="0" lang="en-GB" sz="3000" spc="-1" strike="noStrike" baseline="30000">
                <a:solidFill>
                  <a:srgbClr val="ffffff"/>
                </a:solidFill>
                <a:latin typeface="Corbel"/>
              </a:rPr>
              <a:t>th</a:t>
            </a: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 and 20</a:t>
            </a:r>
            <a:r>
              <a:rPr b="0" lang="en-GB" sz="3000" spc="-1" strike="noStrike" baseline="30000">
                <a:solidFill>
                  <a:srgbClr val="ffffff"/>
                </a:solidFill>
                <a:latin typeface="Corbel"/>
              </a:rPr>
              <a:t>th</a:t>
            </a: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 centuri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Media representations of lesbians are far less frequ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One or two notable exceptions include Sugar Rush (2005/6)and Tipping the Velvet (2002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8" name="Picture 2" descr="http://t1.gstatic.com/images?q=tbn:U0DNNAwq-3NoLM:http://www.bbc.co.uk/drama/content/images/2006/11/27/tipping_lead2_396x222.jpg"/>
          <p:cNvPicPr/>
          <p:nvPr/>
        </p:nvPicPr>
        <p:blipFill>
          <a:blip r:embed="rId1"/>
          <a:stretch/>
        </p:blipFill>
        <p:spPr>
          <a:xfrm>
            <a:off x="6735600" y="333360"/>
            <a:ext cx="20415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1eeff"/>
                </a:solidFill>
                <a:latin typeface="Consolas"/>
              </a:rPr>
              <a:t>Madonna – bringing queer theory to the masse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1" name="Picture 2" descr="http://t3.gstatic.com/images?q=tbn:78uDtXlv80znXM:http://freeringtonesnokia.com/madonna.jpg"/>
          <p:cNvPicPr/>
          <p:nvPr/>
        </p:nvPicPr>
        <p:blipFill>
          <a:blip r:embed="rId1"/>
          <a:stretch/>
        </p:blipFill>
        <p:spPr>
          <a:xfrm>
            <a:off x="3995640" y="2781360"/>
            <a:ext cx="1836720" cy="2448000"/>
          </a:xfrm>
          <a:prstGeom prst="rect">
            <a:avLst/>
          </a:prstGeom>
          <a:ln w="0">
            <a:noFill/>
          </a:ln>
        </p:spPr>
      </p:pic>
      <p:sp>
        <p:nvSpPr>
          <p:cNvPr id="442" name="TextBox 4"/>
          <p:cNvSpPr/>
          <p:nvPr/>
        </p:nvSpPr>
        <p:spPr>
          <a:xfrm>
            <a:off x="6732720" y="2349360"/>
            <a:ext cx="180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culine traits – very successful  in business, seemingly in charge of her own care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Box 5"/>
          <p:cNvSpPr/>
          <p:nvPr/>
        </p:nvSpPr>
        <p:spPr>
          <a:xfrm>
            <a:off x="5867280" y="5661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rupts the ‘male gaze’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6"/>
          <p:cNvSpPr/>
          <p:nvPr/>
        </p:nvSpPr>
        <p:spPr>
          <a:xfrm>
            <a:off x="1476360" y="285264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so appropriates female constr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7"/>
          <p:cNvSpPr/>
          <p:nvPr/>
        </p:nvSpPr>
        <p:spPr>
          <a:xfrm>
            <a:off x="1547640" y="5157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odic drag performa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In conclusion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‘</a:t>
            </a: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Gender trouble’ is evident everywhere in mainstream medi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Queer theorists suggest this is evidence of a move towards increasing tolerance of sexual diversit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Others argue that these representations simply present alternatives to the ‘norm’ of heterosexualit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Used because of their shock value, not due to any desire to promote diversit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Definition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A field of critical theory that emerged in the early 1990s out of the fields of LGBT studies and feminist studies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Explores and challenges the way in which heterosexuality is constructed as normal..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And the way in which the media has limited the representations of gay men and women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Challenges the traditionally held assumptions that there is a binary divide between being gay and heterosexua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Suggests sexual identity is more flui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rbel"/>
              </a:rPr>
              <a:t>For example..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http://www.7dnews.com/wp-content/uploads/2009/07/jack_sparrow.jpg"/>
          <p:cNvPicPr/>
          <p:nvPr/>
        </p:nvPicPr>
        <p:blipFill>
          <a:blip r:embed="rId1"/>
          <a:stretch/>
        </p:blipFill>
        <p:spPr>
          <a:xfrm>
            <a:off x="684360" y="260280"/>
            <a:ext cx="3876480" cy="3245040"/>
          </a:xfrm>
          <a:prstGeom prst="rect">
            <a:avLst/>
          </a:prstGeom>
          <a:ln w="0">
            <a:noFill/>
          </a:ln>
        </p:spPr>
      </p:pic>
      <p:sp>
        <p:nvSpPr>
          <p:cNvPr id="378" name="TextBox 4"/>
          <p:cNvSpPr/>
          <p:nvPr/>
        </p:nvSpPr>
        <p:spPr>
          <a:xfrm>
            <a:off x="5003640" y="260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ptain Jack Sparrow – Pirates of the Caribb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5"/>
          <p:cNvSpPr/>
          <p:nvPr/>
        </p:nvSpPr>
        <p:spPr>
          <a:xfrm>
            <a:off x="5003640" y="1268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 ironic and over the top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6"/>
          <p:cNvSpPr/>
          <p:nvPr/>
        </p:nvSpPr>
        <p:spPr>
          <a:xfrm>
            <a:off x="6588000" y="2349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verly elaborate costume and eye make-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7"/>
          <p:cNvSpPr/>
          <p:nvPr/>
        </p:nvSpPr>
        <p:spPr>
          <a:xfrm>
            <a:off x="4716360" y="350028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s feminine and camp ges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8"/>
          <p:cNvSpPr/>
          <p:nvPr/>
        </p:nvSpPr>
        <p:spPr>
          <a:xfrm>
            <a:off x="6804000" y="436572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what we would consider ‘macho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4" descr="http://t2.gstatic.com/images?q=tbn:vQLSJeHnr1wgnM:http://ugandaninsomniac.files.wordpress.com/2008/08/russell-bran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076640"/>
            <a:ext cx="1728720" cy="2416320"/>
          </a:xfrm>
          <a:prstGeom prst="rect">
            <a:avLst/>
          </a:prstGeom>
          <a:ln w="0">
            <a:noFill/>
          </a:ln>
        </p:spPr>
      </p:pic>
      <p:cxnSp>
        <p:nvCxnSpPr>
          <p:cNvPr id="384" name="Straight Arrow Connector 11"/>
          <p:cNvCxnSpPr/>
          <p:nvPr/>
        </p:nvCxnSpPr>
        <p:spPr>
          <a:xfrm flipH="1">
            <a:off x="6587640" y="836280"/>
            <a:ext cx="432720" cy="57708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385" name="Straight Arrow Connector 13"/>
          <p:cNvCxnSpPr/>
          <p:nvPr/>
        </p:nvCxnSpPr>
        <p:spPr>
          <a:xfrm>
            <a:off x="6587640" y="1988640"/>
            <a:ext cx="793080" cy="2883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386" name="Straight Arrow Connector 15"/>
          <p:cNvCxnSpPr/>
          <p:nvPr/>
        </p:nvCxnSpPr>
        <p:spPr>
          <a:xfrm flipH="1">
            <a:off x="5579640" y="2996280"/>
            <a:ext cx="937440" cy="4323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387" name="Straight Arrow Connector 17"/>
          <p:cNvCxnSpPr/>
          <p:nvPr/>
        </p:nvCxnSpPr>
        <p:spPr>
          <a:xfrm>
            <a:off x="6012000" y="4076280"/>
            <a:ext cx="792720" cy="28944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pic>
        <p:nvPicPr>
          <p:cNvPr id="388" name="Picture 6" descr="http://t2.gstatic.com/images?q=tbn:WBdaHW-J63SH9M:http://userserve-ak.last.fm/serve/_/30489819/Noel%2BFielding%2Bnoelfielding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00360" y="4076640"/>
            <a:ext cx="17002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Judith Butler (1999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Suggests gender is not the result of nature, but is socially constructe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Male and female behaviour roles are not the result of biology but are constructed and reinforced by society through media and cultur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Sees gender as a PERFORMANC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She argues that there are a number of exaggerated representations of masculinity and femininity which cause “gender trouble.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(Any behaviour or representation that disrupts culturally accepted notions of gender.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For example..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1" name="Picture 5" descr="http://t3.gstatic.com/images?q=tbn:FCE3kkNeP1JevM:http://sachafrey.files.wordpress.com/2009/11/butler1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1eeff"/>
                </a:solidFill>
                <a:latin typeface="Consolas"/>
              </a:rPr>
              <a:t>Both have built their success on subverting expected notions of femininity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rbel"/>
              </a:rPr>
              <a:t>Joss Ston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By being overtly sexual at a young ag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rbel"/>
              </a:rPr>
              <a:t>Amy Winehous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By living up to her ‘bad girl’ imag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Excessive consumption of drugs and alcohol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She mixes an excess of traditional 1950s/60s femininity by wearing retro dresses that emphasise the female shape and long hair..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with a range of tattoos that would once have been considered masculin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5" name="Picture 8" descr="joss-st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800" y="3500280"/>
            <a:ext cx="1935360" cy="2521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0" descr="amy-winehou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4200" y="3500280"/>
            <a:ext cx="18925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The History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1950s – police actively enforced laws that prohibited sexual activities between me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Sexually ‘abnormal’ and ‘deviant’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1967 – homosexuality is decriminalised in UK (2009 for India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In parts of Africa and Asia today it is still punishable by deat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1977 – World Health Organisation refers to homosexuality as a mental illness (removed in 1990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</a:rPr>
              <a:t>Civil partnerships legal in UK from 2004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eeff"/>
                </a:solidFill>
                <a:latin typeface="Consolas"/>
              </a:rPr>
              <a:t>Queer theory suggests there are different ways of interpreting contemporary media texts (before decriminalization)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atman and Robin (1960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Picture 5" descr="http://t2.gstatic.com/images?q=tbn:atWWjN0_K9MLtM:http://1.bp.blogspot.com/_XBS3sASwLlc/TITbPXnpPOI/AAAAAAAAAJM/Yj1BJIrXcBs/s1600/Batman-and-Rob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637000"/>
            <a:ext cx="2163960" cy="17287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http://upload.wikimedia.org/wikipedia/en/thumb/7/77/Batbed.png/220px-Batbed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0240" y="3068640"/>
            <a:ext cx="4433760" cy="3789360"/>
          </a:xfrm>
          <a:prstGeom prst="rect">
            <a:avLst/>
          </a:prstGeom>
          <a:ln w="0">
            <a:noFill/>
          </a:ln>
        </p:spPr>
      </p:pic>
      <p:sp>
        <p:nvSpPr>
          <p:cNvPr id="403" name="TextBox 7"/>
          <p:cNvSpPr/>
          <p:nvPr/>
        </p:nvSpPr>
        <p:spPr>
          <a:xfrm>
            <a:off x="1258920" y="501336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omo-erotic overtones...ironically camp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emporary Tex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Queer theory can also be applied to texts where heterosexuality is domina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6" name="Picture 5" descr="http://t0.gstatic.com/images?q=tbn:lUx0RD4ruOhmyM:http://www.frasieronline.co.uk/gallery/albums/userpics/10490/normal_frasier_show_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869000"/>
            <a:ext cx="1481040" cy="1800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http://t2.gstatic.com/images?q=tbn:ZnaGTt20WCtkpM:http://c2.api.ning.com/files/toPZYMNmtz0KSvdVcozyl4scTD9OJbFBGV-DnyV9*FOLELUcJmLioWWuVH7sdQM-cKfBKYLHJeGFoXBIFCoPmT8D6g3UUC31/friend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80360" y="4581360"/>
            <a:ext cx="1590480" cy="2121120"/>
          </a:xfrm>
          <a:prstGeom prst="rect">
            <a:avLst/>
          </a:prstGeom>
          <a:ln w="0">
            <a:noFill/>
          </a:ln>
        </p:spPr>
      </p:pic>
      <p:sp>
        <p:nvSpPr>
          <p:cNvPr id="408" name="TextBox 7"/>
          <p:cNvSpPr/>
          <p:nvPr/>
        </p:nvSpPr>
        <p:spPr>
          <a:xfrm>
            <a:off x="611280" y="400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si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8"/>
          <p:cNvSpPr/>
          <p:nvPr/>
        </p:nvSpPr>
        <p:spPr>
          <a:xfrm>
            <a:off x="1835280" y="3141720"/>
            <a:ext cx="24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two brothers, Frasier and Niles have feminine tas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>
            <a:off x="2340000" y="436572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erences for fine wine, opera, designer clothes and interior 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10"/>
          <p:cNvSpPr/>
          <p:nvPr/>
        </p:nvSpPr>
        <p:spPr>
          <a:xfrm>
            <a:off x="6659640" y="342900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oey and Chandler (Frien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11"/>
          <p:cNvSpPr/>
          <p:nvPr/>
        </p:nvSpPr>
        <p:spPr>
          <a:xfrm>
            <a:off x="5580000" y="4365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ongly heterosexual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12"/>
          <p:cNvSpPr/>
          <p:nvPr/>
        </p:nvSpPr>
        <p:spPr>
          <a:xfrm>
            <a:off x="4500720" y="551664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omo-erotic...an interest in each other that exceeds normal friend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4" name="Straight Arrow Connector 14"/>
          <p:cNvCxnSpPr/>
          <p:nvPr/>
        </p:nvCxnSpPr>
        <p:spPr>
          <a:xfrm flipV="1">
            <a:off x="1258920" y="3499920"/>
            <a:ext cx="505440" cy="434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15" name="Straight Arrow Connector 16"/>
          <p:cNvCxnSpPr/>
          <p:nvPr/>
        </p:nvCxnSpPr>
        <p:spPr>
          <a:xfrm>
            <a:off x="2771640" y="4076640"/>
            <a:ext cx="216720" cy="2167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16" name="Straight Arrow Connector 20"/>
          <p:cNvCxnSpPr/>
          <p:nvPr/>
        </p:nvCxnSpPr>
        <p:spPr>
          <a:xfrm flipH="1">
            <a:off x="6732000" y="4076640"/>
            <a:ext cx="432360" cy="4327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17" name="Straight Arrow Connector 22"/>
          <p:cNvCxnSpPr/>
          <p:nvPr/>
        </p:nvCxnSpPr>
        <p:spPr>
          <a:xfrm>
            <a:off x="6155280" y="5157720"/>
            <a:ext cx="432360" cy="50400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Queer as Folk (1999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Queer theory suggests there is now a more open and fluid approach to sexualit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re have been a number of changes in attitud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0" name="Picture 5" descr="http://t1.gstatic.com/images?q=tbn:0WO5OCetw86NOM:http://1.bp.blogspot.com/_CEEU2PTkVq0/TI3e0jVXkuI/AAAAAAAAB28/qoZsPzU1rYE/s1600/queer-as-folk-season-fou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3933720"/>
            <a:ext cx="1836720" cy="2592360"/>
          </a:xfrm>
          <a:prstGeom prst="rect">
            <a:avLst/>
          </a:prstGeom>
          <a:ln w="0">
            <a:noFill/>
          </a:ln>
        </p:spPr>
      </p:pic>
      <p:sp>
        <p:nvSpPr>
          <p:cNvPr id="421" name="TextBox 6"/>
          <p:cNvSpPr/>
          <p:nvPr/>
        </p:nvSpPr>
        <p:spPr>
          <a:xfrm>
            <a:off x="1332000" y="486900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presented gay culture in Manch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7"/>
          <p:cNvSpPr/>
          <p:nvPr/>
        </p:nvSpPr>
        <p:spPr>
          <a:xfrm>
            <a:off x="6516720" y="4653000"/>
            <a:ext cx="230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ositive in that it represented gay culture rather than an individual charac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3" name="Straight Arrow Connector 9"/>
          <p:cNvCxnSpPr/>
          <p:nvPr/>
        </p:nvCxnSpPr>
        <p:spPr>
          <a:xfrm flipV="1">
            <a:off x="2410920" y="4507920"/>
            <a:ext cx="1297800" cy="36108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24" name="Straight Arrow Connector 13"/>
          <p:cNvCxnSpPr/>
          <p:nvPr/>
        </p:nvCxnSpPr>
        <p:spPr>
          <a:xfrm flipV="1">
            <a:off x="5867280" y="5013000"/>
            <a:ext cx="650160" cy="28800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5:02:12Z</dcterms:created>
  <dc:creator>gbrolly940</dc:creator>
  <dc:description/>
  <dc:language>en-US</dc:language>
  <cp:lastModifiedBy>Grainne</cp:lastModifiedBy>
  <dcterms:modified xsi:type="dcterms:W3CDTF">2010-11-30T19:24:59Z</dcterms:modified>
  <cp:revision>28</cp:revision>
  <dc:subject/>
  <dc:title>Queer Theory</dc:title>
</cp:coreProperties>
</file>